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292-BB13-457B-8F44-3B4FE46E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D8E-2209-49B9-AB72-64628FC67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3B6F-4EAC-4975-AA18-1EB8B5F0D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A3D9-C01A-4406-AC66-22481B6BF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FFC-E9C7-4495-A9A7-63EC1F3E9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342-E09A-4179-9B21-A974AC1CE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3E9F-E180-4C22-8C42-B9A2CE9D8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E519-F259-46CC-9AD6-135B076EB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136-685A-4424-9368-0E44EB917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1017-7789-4D3D-B23B-9A072865E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595-CE93-4A71-8FA5-FCE512D9B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9741-1D7C-4818-89B2-F7BAB31C6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1F9-66CE-4C91-BD1E-787D8DA8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6EE-26F0-4331-A1F3-593AEE56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16F-3D3B-44DD-B908-BA7AD30B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738-CA5E-4265-A034-F974EEC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C72-D5DF-408C-ACD3-2FF08A17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E88-D59B-4340-B502-4F27223B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88B-E6BA-4EFE-80AF-4B17935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5BC-CF47-4208-BA8E-C97B2341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A1C-0F12-416F-AE9B-9561D639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D7B-C9FD-4351-8363-281156D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4EF-32A7-4493-AC23-930F599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7AD-AA25-421A-8657-9B46CF0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D11-1641-4D7D-A444-383E9EAFF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00946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84760" y="5654520"/>
            <a:ext cx="1407960" cy="79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402160" y="5670720"/>
            <a:ext cx="89856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6489720" y="5710320"/>
            <a:ext cx="81900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5"/>
          <a:stretch/>
        </p:blipFill>
        <p:spPr>
          <a:xfrm>
            <a:off x="7451640" y="5823000"/>
            <a:ext cx="1513080" cy="558720"/>
          </a:xfrm>
          <a:prstGeom prst="rect">
            <a:avLst/>
          </a:prstGeom>
          <a:ln w="0">
            <a:noFill/>
          </a:ln>
        </p:spPr>
      </p:pic>
      <p:sp>
        <p:nvSpPr>
          <p:cNvPr id="53" name="21 CuadroTexto"/>
          <p:cNvSpPr/>
          <p:nvPr/>
        </p:nvSpPr>
        <p:spPr>
          <a:xfrm>
            <a:off x="179280" y="56736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Master Interuniversitario en Restauraci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2009 -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2060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Verdana"/>
                <a:ea typeface="Verdana"/>
              </a:rPr>
              <a:t>Reintroducci</a:t>
            </a:r>
            <a:r>
              <a:rPr b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ón de </a:t>
            </a:r>
            <a:r>
              <a:rPr b="1" i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Araucaria angustifolia</a:t>
            </a:r>
            <a:r>
              <a:rPr b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 en el Refugio Biológico Carapa, Paragu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2340000" y="4292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Verdana"/>
              </a:rPr>
              <a:t>María Lidia Aranda Espin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CuadroTexto"/>
          <p:cNvSpPr/>
          <p:nvPr/>
        </p:nvSpPr>
        <p:spPr>
          <a:xfrm>
            <a:off x="25092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  <a:ea typeface="Verdana"/>
              </a:rPr>
              <a:t>Agradecimientos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684360" y="141300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L Ing. For. Jorge Pinazz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Universidad Nacional de As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  la Ing. For. Lidia Pérez de Molas, Universidad Nacional de As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l Prof. Giovanni F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Universidad de Sao Pa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SC00946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971640" y="5229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Verdana"/>
              </a:rPr>
              <a:t>MUCHAS GRACIAS POR LA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0" y="54936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. Problemática de </a:t>
            </a:r>
            <a:r>
              <a:rPr b="1" i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 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en Paragu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proceso_deforestacion.jpg"/>
          <p:cNvPicPr/>
          <p:nvPr/>
        </p:nvPicPr>
        <p:blipFill>
          <a:blip r:embed="rId1"/>
          <a:stretch/>
        </p:blipFill>
        <p:spPr>
          <a:xfrm>
            <a:off x="755640" y="1197000"/>
            <a:ext cx="7516800" cy="5087880"/>
          </a:xfrm>
          <a:prstGeom prst="rect">
            <a:avLst/>
          </a:prstGeom>
          <a:ln w="0">
            <a:noFill/>
          </a:ln>
        </p:spPr>
      </p:pic>
      <p:sp>
        <p:nvSpPr>
          <p:cNvPr id="58" name="3 Rectángulo"/>
          <p:cNvSpPr/>
          <p:nvPr/>
        </p:nvSpPr>
        <p:spPr>
          <a:xfrm>
            <a:off x="684360" y="5516640"/>
            <a:ext cx="7559640" cy="79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Deforestación (alto valor mader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Cambio en el uso de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50920" y="549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2. Características de la esp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CuadroTexto"/>
          <p:cNvSpPr/>
          <p:nvPr/>
        </p:nvSpPr>
        <p:spPr>
          <a:xfrm>
            <a:off x="250920" y="1341360"/>
            <a:ext cx="58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ORDEN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Coniferal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FAMILIA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Araucariacea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NOMBRE CIENTIFICO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Planta de Araucaria angustifolia"/>
          <p:cNvPicPr/>
          <p:nvPr/>
        </p:nvPicPr>
        <p:blipFill>
          <a:blip r:embed="rId1"/>
          <a:stretch/>
        </p:blipFill>
        <p:spPr>
          <a:xfrm>
            <a:off x="6300720" y="126828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179280" y="270828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C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specie dio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Producción de semillas  anemófilas a los 12 – 1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specie colonizadora y dominante del estrato arbó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CuadroTexto"/>
          <p:cNvSpPr/>
          <p:nvPr/>
        </p:nvSpPr>
        <p:spPr>
          <a:xfrm>
            <a:off x="250920" y="4437000"/>
            <a:ext cx="741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ujo genético entre poblaciones dentro de las regiones es mayor que el flujo genético entre poblaciones de regiones distantes. (Sebbenn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cotipos son poblaciones adaptadas a condiciones ambientales específicas, como el clima y e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539640" y="476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DISTRIBUCIÓN GEOGRÁFICA DE LA E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Zona de distribución geográfica de Araucaria angustifolia"/>
          <p:cNvPicPr/>
          <p:nvPr/>
        </p:nvPicPr>
        <p:blipFill>
          <a:blip r:embed="rId1"/>
          <a:stretch/>
        </p:blipFill>
        <p:spPr>
          <a:xfrm>
            <a:off x="324000" y="1628640"/>
            <a:ext cx="3423960" cy="2990880"/>
          </a:xfrm>
          <a:prstGeom prst="rect">
            <a:avLst/>
          </a:prstGeom>
          <a:ln w="0">
            <a:noFill/>
          </a:ln>
        </p:spPr>
      </p:pic>
      <p:sp>
        <p:nvSpPr>
          <p:cNvPr id="66" name="3 CuadroTexto"/>
          <p:cNvSpPr/>
          <p:nvPr/>
        </p:nvSpPr>
        <p:spPr>
          <a:xfrm>
            <a:off x="205092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rone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istribución de poblaciones de Araucaria angustifolia actuales"/>
          <p:cNvPicPr/>
          <p:nvPr/>
        </p:nvPicPr>
        <p:blipFill>
          <a:blip r:embed="rId2"/>
          <a:stretch/>
        </p:blipFill>
        <p:spPr>
          <a:xfrm>
            <a:off x="4716360" y="981000"/>
            <a:ext cx="373392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5 CuadroTexto"/>
          <p:cNvSpPr/>
          <p:nvPr/>
        </p:nvSpPr>
        <p:spPr>
          <a:xfrm>
            <a:off x="514836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DISTRIBUCIÓN DE POB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6 CuadroTexto"/>
          <p:cNvSpPr/>
          <p:nvPr/>
        </p:nvSpPr>
        <p:spPr>
          <a:xfrm>
            <a:off x="5796000" y="4292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1000 Ha,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Pies remanentes 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5300640"/>
          <a:ext cx="7705800" cy="1346400"/>
        </p:xfrm>
        <a:graphic>
          <a:graphicData uri="http://schemas.openxmlformats.org/drawingml/2006/table">
            <a:tbl>
              <a:tblPr/>
              <a:tblGrid>
                <a:gridCol w="1925640"/>
                <a:gridCol w="1603440"/>
                <a:gridCol w="2249640"/>
                <a:gridCol w="192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ener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ve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 masculi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 femeni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,1 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4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,6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8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,4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9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9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9 Rectángulo"/>
          <p:cNvSpPr/>
          <p:nvPr/>
        </p:nvSpPr>
        <p:spPr>
          <a:xfrm>
            <a:off x="7749360" y="63086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sta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539640" y="476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3. TIPO DE RESTITUCIÓN A RE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3 Conector recto de flecha"/>
          <p:cNvCxnSpPr>
            <a:stCxn id="73" idx="3"/>
          </p:cNvCxnSpPr>
          <p:nvPr/>
        </p:nvCxnSpPr>
        <p:spPr>
          <a:xfrm flipV="1">
            <a:off x="3276360" y="907920"/>
            <a:ext cx="648360" cy="306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5" name="4 Rectángulo"/>
          <p:cNvSpPr/>
          <p:nvPr/>
        </p:nvSpPr>
        <p:spPr>
          <a:xfrm>
            <a:off x="4356000" y="404640"/>
            <a:ext cx="3024360" cy="10083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2771640" y="17431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4.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250920" y="2276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Establecer una población viable y autosostenible de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en el refugio biológico Carapa, Paraguay, considerado zona histórica y geográfica de distribución de la especi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 Rectángulo"/>
          <p:cNvSpPr/>
          <p:nvPr/>
        </p:nvSpPr>
        <p:spPr>
          <a:xfrm>
            <a:off x="395280" y="3789360"/>
            <a:ext cx="8497800" cy="28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1. Obtener en el plazo de 20 años al menos una población de 500 individuos, 200 en edad de reproducción y 300 juveniles en un área de 5 hect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2. Asegurar la disponibilidad de material vegetal para las actividades de reint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3. Fomentar la capacitación técnica de guardas del refugio Carapa para asegurar el éxito de la re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5. Selección de la lo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ubicacion_carapa_sudamerica.jpg"/>
          <p:cNvPicPr/>
          <p:nvPr/>
        </p:nvPicPr>
        <p:blipFill>
          <a:blip r:embed="rId1"/>
          <a:stretch/>
        </p:blipFill>
        <p:spPr>
          <a:xfrm>
            <a:off x="395280" y="836640"/>
            <a:ext cx="8088480" cy="547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ubicacion_de_la_cuenca_carapa.png"/>
          <p:cNvPicPr/>
          <p:nvPr/>
        </p:nvPicPr>
        <p:blipFill>
          <a:blip r:embed="rId2"/>
          <a:stretch/>
        </p:blipFill>
        <p:spPr>
          <a:xfrm>
            <a:off x="3419640" y="831960"/>
            <a:ext cx="5371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6. Material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localizacion_de_san_pedro.png"/>
          <p:cNvPicPr/>
          <p:nvPr/>
        </p:nvPicPr>
        <p:blipFill>
          <a:blip r:embed="rId1"/>
          <a:stretch/>
        </p:blipFill>
        <p:spPr>
          <a:xfrm>
            <a:off x="250920" y="1123920"/>
            <a:ext cx="8715240" cy="5629320"/>
          </a:xfrm>
          <a:prstGeom prst="rect">
            <a:avLst/>
          </a:prstGeom>
          <a:ln w="0">
            <a:noFill/>
          </a:ln>
        </p:spPr>
      </p:pic>
      <p:sp>
        <p:nvSpPr>
          <p:cNvPr id="84" name="3 Elipse"/>
          <p:cNvSpPr/>
          <p:nvPr/>
        </p:nvSpPr>
        <p:spPr>
          <a:xfrm>
            <a:off x="7451640" y="1916280"/>
            <a:ext cx="14414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Bosque Modelo San P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39528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457200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Verdana"/>
              </a:rPr>
              <a:t>M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6 Rectángulo"/>
          <p:cNvSpPr/>
          <p:nvPr/>
        </p:nvSpPr>
        <p:spPr>
          <a:xfrm>
            <a:off x="611280" y="1268280"/>
            <a:ext cx="2881080" cy="6480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SEM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olecta mat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Ger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3. Cultivo en vi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7. Proceso de estable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 Rectángulo"/>
          <p:cNvSpPr/>
          <p:nvPr/>
        </p:nvSpPr>
        <p:spPr>
          <a:xfrm>
            <a:off x="395280" y="1197000"/>
            <a:ext cx="2305080" cy="151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F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e Impla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1 – 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2916360" y="1125360"/>
            <a:ext cx="59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50 individuos al año, durante 4 años consec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Grupos de 10 individuos cada u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Mantenimiento an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Al 4º año: 200 individuos, doble de la población mínima viable Sebbenn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468360" y="3716280"/>
            <a:ext cx="230328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F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e 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6 – 1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2916360" y="3500280"/>
            <a:ext cx="59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3 plantaciones de refuerzo de 100 individuos, cada 3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isposición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den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irregular en el terreno pero tratando de mantener un grupo de la fase 1, rodeado de al menos 2 grupos de la fase 2 para asegurar la diferenciación de es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7 Conector recto de flecha"/>
          <p:cNvCxnSpPr/>
          <p:nvPr/>
        </p:nvCxnSpPr>
        <p:spPr>
          <a:xfrm flipH="1">
            <a:off x="1689840" y="2781360"/>
            <a:ext cx="2520" cy="7927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5" name="8 Conector recto de flecha"/>
          <p:cNvCxnSpPr/>
          <p:nvPr/>
        </p:nvCxnSpPr>
        <p:spPr>
          <a:xfrm flipH="1">
            <a:off x="1692000" y="5300280"/>
            <a:ext cx="2160" cy="577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6" name="9 Elipse"/>
          <p:cNvSpPr/>
          <p:nvPr/>
        </p:nvSpPr>
        <p:spPr>
          <a:xfrm>
            <a:off x="250920" y="5950080"/>
            <a:ext cx="403380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Control y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8. Plan de evaluación y monito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tabla_de_evaluación_.jpg"/>
          <p:cNvPicPr/>
          <p:nvPr/>
        </p:nvPicPr>
        <p:blipFill>
          <a:blip r:embed="rId1"/>
          <a:stretch/>
        </p:blipFill>
        <p:spPr>
          <a:xfrm>
            <a:off x="250920" y="1125360"/>
            <a:ext cx="8488440" cy="321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formula_ivi.jpg"/>
          <p:cNvPicPr/>
          <p:nvPr/>
        </p:nvPicPr>
        <p:blipFill>
          <a:blip r:embed="rId2"/>
          <a:stretch/>
        </p:blipFill>
        <p:spPr>
          <a:xfrm>
            <a:off x="2604960" y="5578560"/>
            <a:ext cx="3389400" cy="87480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395280" y="4653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Como evaluación general se aplicará el 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Indice de Valor de Importancia (IVI)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 sugerido por Acosta et al. (2008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8:21:52Z</dcterms:created>
  <dc:creator>toshiba</dc:creator>
  <dc:description/>
  <dc:language>en-US</dc:language>
  <cp:lastModifiedBy>toshiba</cp:lastModifiedBy>
  <dcterms:modified xsi:type="dcterms:W3CDTF">2010-06-16T06:58:34Z</dcterms:modified>
  <cp:revision>14</cp:revision>
  <dc:subject/>
  <dc:title>Diapositiva 1</dc:title>
</cp:coreProperties>
</file>